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30A9-7F4B-44BC-9798-E0413A0FA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FE40-6990-4C48-8ED5-A22A4704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DFDC-9895-4DF7-8595-B7FC75A17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9C6B-A293-4D85-A5D0-6745880C1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2C0C-37A5-4FB1-A672-BDC363CAD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0B1E-9E99-4ABA-AA06-A8C8612C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4BE8-C970-4870-9D2B-46FB44C6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9DD5-418B-46D1-8CF8-1F0E1B63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13D5-F11F-4DE7-8B0A-33FD635D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32B7-370F-4F3C-BCD6-0878A54A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58E8-E524-42A8-BC80-7580FAD6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4320-8420-4DD1-BFA3-0E42216D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126D-917E-47F4-8B32-969ADF06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F7A8-B3AD-477A-864B-7C6A9492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CBC6-BF08-4520-9A35-8BA42A2B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4140-0638-4A0E-A9A6-D3EC4EFBA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A0B5-8021-4BC6-8C4D-96C3785F4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55AC3-76B2-4262-86F1-186BE6809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78BF3-F8F9-4C83-806D-B5471A61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7DD15-3B50-4C37-9AB1-EC5C8AEE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94F94-7EFC-4208-A951-85165980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13B0F-4192-490A-AE20-0497F3F4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7F17-8740-4C54-A3DD-A5850F42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C5A26-B9B4-43AA-8A8B-CAEB0B60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69176-41FD-47D5-A15E-6A4F203D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77487-73C5-42A6-82DD-B3B2DF21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4F714-8BD5-4E33-B12F-0D5ACBFA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DF571-F4F9-454F-BF0A-500B5F02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A6262-5380-4146-82E9-F3298A86D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42AE1-99D7-426D-9470-508E35E6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B6A96-B758-4008-A669-1A1BC20D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27C00-0E2F-4992-8960-CA301BBD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0DE28-EAFF-4F7E-8D56-8782918D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7E61-B5CF-4F4C-8C33-71A5BC50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5E1B7-6F98-4E71-A575-A6DDBA4A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941B2-4E36-4E11-9798-6D4A65F1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AD3C9-F75A-4BEF-9192-E69D98E7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408A7-410F-4FE2-B3D6-87A00CDD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3C822-611A-4104-9FA4-ECF54182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C4459-7500-4D3D-A461-06AAAB75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73C02-D2A8-42F6-8E57-27A3D8BF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0FCFE-1D42-488F-A4F0-0BC6DA616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D7F3B-7007-43B8-B650-7E807DB04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8D1F-E977-4731-B96E-3B766BD5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A872-9E8B-4BA5-B039-69EC7683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C6CB-4061-4704-A584-2D71DAF8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ED34-EA1C-4C13-BCA7-B8546DA2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28D8-98AF-4C3A-9981-CBDBF50C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7BF6-64BE-40CD-8AD9-148FE9EA5C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E115-017E-406F-9613-530C719E1A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6316-2644-4C44-B5BB-0299C7C7F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E653-6C47-4A08-8E9F-7367D6324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google.com/support/?ctx=web" TargetMode="External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youtube.com/watch?v=HLpjrHzgSRM" TargetMode="External"/><Relationship Id="rId3" Type="http://schemas.openxmlformats.org/officeDocument/2006/relationships/hyperlink" Target="http://youtube.com/watch?v=HLpjrHzgSRM" TargetMode="External"/><Relationship Id="rId4" Type="http://schemas.openxmlformats.org/officeDocument/2006/relationships/hyperlink" Target="http://youtube.com/watch?v=HLpjrHzgSRM" TargetMode="External"/><Relationship Id="rId5" Type="http://schemas.openxmlformats.org/officeDocument/2006/relationships/hyperlink" Target="http://youtube.com/watch?v=HLpjrHzgSRM" TargetMode="External"/><Relationship Id="rId6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42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Tahoma"/>
              </a:rPr>
              <a:t>ED 3862</a:t>
            </a:r>
            <a:br>
              <a:rPr sz="4800"/>
            </a:br>
            <a:r>
              <a:rPr b="1" lang="en-US" sz="2000" spc="-1" strike="noStrike">
                <a:solidFill>
                  <a:srgbClr val="99cc00"/>
                </a:solidFill>
                <a:latin typeface="Tahoma"/>
              </a:rPr>
              <a:t>February 6</a:t>
            </a:r>
            <a:endParaRPr b="1" lang="en-US" sz="2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438280" y="2768760"/>
            <a:ext cx="5802480" cy="25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&amp; Communications Technology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’kmaq - Maliseet Institu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ulty of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New Brunsw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981080" y="1752120"/>
            <a:ext cx="6778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reating on-line presentations of directions or procedures (build effe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isual display of comparison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esent charted data collected from spreadsheets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274284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Students Using PowerPoint to demonstrate learning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057400" y="2514240"/>
            <a:ext cx="6778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usiness presen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duct 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arts / photos / specs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209320" y="304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Using PowerPoint to share idea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981080" y="1752120"/>
            <a:ext cx="6778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imit text – must be read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alking Points”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imit flashy animations – swirls and zooms just dis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picture is worth a thousand wor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video is worth ten thousand wor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274284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Tips and Pointer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981080" y="1752120"/>
            <a:ext cx="6778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rst Slide – </a:t>
            </a:r>
            <a:r>
              <a:rPr b="1" i="1" lang="en-US" sz="2400" spc="-1" strike="noStrike">
                <a:solidFill>
                  <a:srgbClr val="e01318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cond Slide – </a:t>
            </a:r>
            <a:r>
              <a:rPr b="1" i="1" lang="en-US" sz="2400" spc="-1" strike="noStrike">
                <a:solidFill>
                  <a:srgbClr val="e01318"/>
                </a:solidFill>
                <a:latin typeface="Arial"/>
              </a:rPr>
              <a:t>Thesis Statement  / What will we learn / talk ab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veral Slides – </a:t>
            </a:r>
            <a:r>
              <a:rPr b="1" i="1" lang="en-US" sz="2400" spc="-1" strike="noStrike">
                <a:solidFill>
                  <a:srgbClr val="e01318"/>
                </a:solidFill>
                <a:latin typeface="Arial"/>
              </a:rPr>
              <a:t>Information /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ast Slide - </a:t>
            </a:r>
            <a:r>
              <a:rPr b="1" i="1" lang="en-US" sz="2400" spc="-1" strike="noStrike">
                <a:solidFill>
                  <a:srgbClr val="e01318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274284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Content &amp; Structure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981080" y="1752120"/>
            <a:ext cx="6778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pport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274284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Final Tip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Pen-Based Peripherals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828800" y="1523880"/>
            <a:ext cx="6778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urn your screen into a whiteboard or Smart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ired or wirel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ACOM (wired, wireles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MART Airliner (wireles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3352680" y="2286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Pen-Based Peripherals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828800" y="1523520"/>
            <a:ext cx="6778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ACOM tabl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3352680" y="2286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Pen-Based Peripherals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666880" y="2209680"/>
            <a:ext cx="6010560" cy="4010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599840" y="1523520"/>
            <a:ext cx="7007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MART Airli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s your projector into a SMART boar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3352680" y="2286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Pen-Based Peripherals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514600" y="2971800"/>
            <a:ext cx="3124080" cy="29289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5791320" y="342900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599840" y="1523520"/>
            <a:ext cx="7007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nnotate im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3352680" y="2286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Things you can do…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2438280" y="2438280"/>
            <a:ext cx="6276960" cy="4087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53080" y="15192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Ton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52480" y="8380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Software – PowerPoint as a teach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lates, photos, audio/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-based periph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 Engines; Finding Information on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ion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o you feel like the Internet is priv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828440" y="5486400"/>
            <a:ext cx="7007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nnotate power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3352680" y="2286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Things you can do…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2581200" y="2027160"/>
            <a:ext cx="1847880" cy="581040"/>
          </a:xfrm>
          <a:custGeom>
            <a:avLst/>
            <a:gdLst/>
            <a:ahLst/>
            <a:rect l="l" t="t" r="r" b="b"/>
            <a:pathLst>
              <a:path w="5135" h="1613">
                <a:moveTo>
                  <a:pt x="7169" y="5631"/>
                </a:moveTo>
                <a:cubicBezTo>
                  <a:pt x="7169" y="5759"/>
                  <a:pt x="7162" y="5880"/>
                  <a:pt x="7193" y="6003"/>
                </a:cubicBezTo>
                <a:cubicBezTo>
                  <a:pt x="7224" y="6128"/>
                  <a:pt x="7295" y="6258"/>
                  <a:pt x="7317" y="6375"/>
                </a:cubicBezTo>
                <a:cubicBezTo>
                  <a:pt x="7338" y="6487"/>
                  <a:pt x="7336" y="6633"/>
                  <a:pt x="7342" y="6747"/>
                </a:cubicBezTo>
                <a:cubicBezTo>
                  <a:pt x="7344" y="6787"/>
                  <a:pt x="7342" y="7030"/>
                  <a:pt x="7342" y="6846"/>
                </a:cubicBezTo>
                <a:cubicBezTo>
                  <a:pt x="7342" y="6838"/>
                  <a:pt x="7342" y="6829"/>
                  <a:pt x="7342" y="6821"/>
                </a:cubicBezTo>
              </a:path>
              <a:path w="5135" h="1613">
                <a:moveTo>
                  <a:pt x="7392" y="6325"/>
                </a:moveTo>
                <a:cubicBezTo>
                  <a:pt x="7339" y="6431"/>
                  <a:pt x="7331" y="6547"/>
                  <a:pt x="7293" y="6648"/>
                </a:cubicBezTo>
                <a:cubicBezTo>
                  <a:pt x="7251" y="6760"/>
                  <a:pt x="7218" y="6796"/>
                  <a:pt x="7218" y="6921"/>
                </a:cubicBezTo>
                <a:cubicBezTo>
                  <a:pt x="7218" y="6993"/>
                  <a:pt x="7266" y="6874"/>
                  <a:pt x="7268" y="6871"/>
                </a:cubicBezTo>
              </a:path>
              <a:path w="5135" h="1613">
                <a:moveTo>
                  <a:pt x="7640" y="6226"/>
                </a:moveTo>
                <a:cubicBezTo>
                  <a:pt x="7668" y="6226"/>
                  <a:pt x="7679" y="6228"/>
                  <a:pt x="7689" y="6251"/>
                </a:cubicBezTo>
                <a:cubicBezTo>
                  <a:pt x="7628" y="6329"/>
                  <a:pt x="7626" y="6409"/>
                  <a:pt x="7590" y="6499"/>
                </a:cubicBezTo>
                <a:cubicBezTo>
                  <a:pt x="7528" y="6656"/>
                  <a:pt x="7457" y="6820"/>
                  <a:pt x="7392" y="6970"/>
                </a:cubicBezTo>
                <a:cubicBezTo>
                  <a:pt x="7339" y="7092"/>
                  <a:pt x="7373" y="7003"/>
                  <a:pt x="7417" y="6970"/>
                </a:cubicBezTo>
              </a:path>
              <a:path w="5135" h="1613">
                <a:moveTo>
                  <a:pt x="7565" y="6350"/>
                </a:moveTo>
                <a:cubicBezTo>
                  <a:pt x="7649" y="6374"/>
                  <a:pt x="7660" y="6442"/>
                  <a:pt x="7714" y="6524"/>
                </a:cubicBezTo>
                <a:cubicBezTo>
                  <a:pt x="7783" y="6629"/>
                  <a:pt x="7849" y="6738"/>
                  <a:pt x="7913" y="6846"/>
                </a:cubicBezTo>
                <a:cubicBezTo>
                  <a:pt x="7934" y="6881"/>
                  <a:pt x="7983" y="6986"/>
                  <a:pt x="8037" y="6970"/>
                </a:cubicBezTo>
                <a:cubicBezTo>
                  <a:pt x="8077" y="6950"/>
                  <a:pt x="8093" y="6952"/>
                  <a:pt x="8086" y="6921"/>
                </a:cubicBezTo>
              </a:path>
              <a:path w="5135" h="1613">
                <a:moveTo>
                  <a:pt x="8334" y="5730"/>
                </a:moveTo>
                <a:cubicBezTo>
                  <a:pt x="8265" y="5954"/>
                  <a:pt x="8234" y="6166"/>
                  <a:pt x="8210" y="6400"/>
                </a:cubicBezTo>
                <a:cubicBezTo>
                  <a:pt x="8187" y="6625"/>
                  <a:pt x="8161" y="6843"/>
                  <a:pt x="8161" y="7069"/>
                </a:cubicBezTo>
                <a:cubicBezTo>
                  <a:pt x="8161" y="7194"/>
                  <a:pt x="8153" y="7168"/>
                  <a:pt x="8210" y="7094"/>
                </a:cubicBezTo>
              </a:path>
              <a:path w="5135" h="1613">
                <a:moveTo>
                  <a:pt x="8607" y="6796"/>
                </a:moveTo>
                <a:cubicBezTo>
                  <a:pt x="8678" y="6785"/>
                  <a:pt x="8728" y="6767"/>
                  <a:pt x="8756" y="6697"/>
                </a:cubicBezTo>
                <a:cubicBezTo>
                  <a:pt x="8775" y="6650"/>
                  <a:pt x="8704" y="6599"/>
                  <a:pt x="8682" y="6573"/>
                </a:cubicBezTo>
                <a:cubicBezTo>
                  <a:pt x="8569" y="6573"/>
                  <a:pt x="8577" y="6641"/>
                  <a:pt x="8508" y="6722"/>
                </a:cubicBezTo>
                <a:cubicBezTo>
                  <a:pt x="8414" y="6832"/>
                  <a:pt x="8385" y="6949"/>
                  <a:pt x="8508" y="7045"/>
                </a:cubicBezTo>
                <a:cubicBezTo>
                  <a:pt x="8597" y="7114"/>
                  <a:pt x="8717" y="7147"/>
                  <a:pt x="8830" y="7119"/>
                </a:cubicBezTo>
                <a:cubicBezTo>
                  <a:pt x="8944" y="7091"/>
                  <a:pt x="9079" y="7021"/>
                  <a:pt x="9103" y="6896"/>
                </a:cubicBezTo>
                <a:cubicBezTo>
                  <a:pt x="9103" y="6871"/>
                  <a:pt x="9103" y="6846"/>
                  <a:pt x="9103" y="6821"/>
                </a:cubicBezTo>
              </a:path>
              <a:path w="5135" h="1613">
                <a:moveTo>
                  <a:pt x="9227" y="5904"/>
                </a:moveTo>
                <a:cubicBezTo>
                  <a:pt x="9194" y="6143"/>
                  <a:pt x="9203" y="6381"/>
                  <a:pt x="9203" y="6623"/>
                </a:cubicBezTo>
                <a:cubicBezTo>
                  <a:pt x="9203" y="6822"/>
                  <a:pt x="9192" y="7027"/>
                  <a:pt x="9227" y="7218"/>
                </a:cubicBezTo>
                <a:cubicBezTo>
                  <a:pt x="9227" y="7259"/>
                  <a:pt x="9227" y="7251"/>
                  <a:pt x="9227" y="7169"/>
                </a:cubicBezTo>
              </a:path>
              <a:path w="5135" h="1613">
                <a:moveTo>
                  <a:pt x="9847" y="6623"/>
                </a:moveTo>
                <a:cubicBezTo>
                  <a:pt x="9776" y="6664"/>
                  <a:pt x="9744" y="6703"/>
                  <a:pt x="9699" y="6772"/>
                </a:cubicBezTo>
                <a:cubicBezTo>
                  <a:pt x="9660" y="6831"/>
                  <a:pt x="9612" y="6944"/>
                  <a:pt x="9649" y="7020"/>
                </a:cubicBezTo>
                <a:cubicBezTo>
                  <a:pt x="9683" y="7090"/>
                  <a:pt x="9743" y="7122"/>
                  <a:pt x="9823" y="7094"/>
                </a:cubicBezTo>
                <a:cubicBezTo>
                  <a:pt x="9933" y="7055"/>
                  <a:pt x="10021" y="6959"/>
                  <a:pt x="10120" y="6896"/>
                </a:cubicBezTo>
              </a:path>
              <a:path w="5135" h="1613">
                <a:moveTo>
                  <a:pt x="10344" y="6623"/>
                </a:moveTo>
                <a:cubicBezTo>
                  <a:pt x="10228" y="6609"/>
                  <a:pt x="10223" y="6667"/>
                  <a:pt x="10195" y="6772"/>
                </a:cubicBezTo>
                <a:cubicBezTo>
                  <a:pt x="10165" y="6882"/>
                  <a:pt x="10148" y="6934"/>
                  <a:pt x="10220" y="7020"/>
                </a:cubicBezTo>
                <a:cubicBezTo>
                  <a:pt x="10261" y="7069"/>
                  <a:pt x="10376" y="7030"/>
                  <a:pt x="10418" y="6995"/>
                </a:cubicBezTo>
                <a:cubicBezTo>
                  <a:pt x="10490" y="6936"/>
                  <a:pt x="10518" y="6833"/>
                  <a:pt x="10468" y="6747"/>
                </a:cubicBezTo>
                <a:cubicBezTo>
                  <a:pt x="10433" y="6687"/>
                  <a:pt x="10355" y="6653"/>
                  <a:pt x="10294" y="6648"/>
                </a:cubicBezTo>
                <a:cubicBezTo>
                  <a:pt x="10286" y="6648"/>
                  <a:pt x="10277" y="6648"/>
                  <a:pt x="10269" y="6648"/>
                </a:cubicBezTo>
              </a:path>
              <a:path w="5135" h="1613">
                <a:moveTo>
                  <a:pt x="10666" y="6672"/>
                </a:moveTo>
                <a:cubicBezTo>
                  <a:pt x="10695" y="6750"/>
                  <a:pt x="10691" y="6811"/>
                  <a:pt x="10691" y="6896"/>
                </a:cubicBezTo>
                <a:cubicBezTo>
                  <a:pt x="10691" y="6951"/>
                  <a:pt x="10708" y="6966"/>
                  <a:pt x="10716" y="7020"/>
                </a:cubicBezTo>
                <a:cubicBezTo>
                  <a:pt x="10709" y="6924"/>
                  <a:pt x="10678" y="6859"/>
                  <a:pt x="10716" y="6772"/>
                </a:cubicBezTo>
                <a:cubicBezTo>
                  <a:pt x="10746" y="6704"/>
                  <a:pt x="10763" y="6650"/>
                  <a:pt x="10815" y="6598"/>
                </a:cubicBezTo>
                <a:cubicBezTo>
                  <a:pt x="10883" y="6598"/>
                  <a:pt x="10909" y="6605"/>
                  <a:pt x="10939" y="6672"/>
                </a:cubicBezTo>
                <a:cubicBezTo>
                  <a:pt x="10971" y="6743"/>
                  <a:pt x="11002" y="6869"/>
                  <a:pt x="11013" y="6945"/>
                </a:cubicBezTo>
                <a:cubicBezTo>
                  <a:pt x="11013" y="7003"/>
                  <a:pt x="10996" y="7028"/>
                  <a:pt x="11038" y="7020"/>
                </a:cubicBezTo>
                <a:cubicBezTo>
                  <a:pt x="11071" y="6887"/>
                  <a:pt x="11107" y="6815"/>
                  <a:pt x="11187" y="6697"/>
                </a:cubicBezTo>
                <a:cubicBezTo>
                  <a:pt x="11239" y="6621"/>
                  <a:pt x="11239" y="6614"/>
                  <a:pt x="11311" y="6573"/>
                </a:cubicBezTo>
                <a:cubicBezTo>
                  <a:pt x="11356" y="6607"/>
                  <a:pt x="11382" y="6678"/>
                  <a:pt x="11385" y="6747"/>
                </a:cubicBezTo>
                <a:cubicBezTo>
                  <a:pt x="11388" y="6813"/>
                  <a:pt x="11406" y="6919"/>
                  <a:pt x="11460" y="6970"/>
                </a:cubicBezTo>
                <a:cubicBezTo>
                  <a:pt x="11526" y="7032"/>
                  <a:pt x="11524" y="7013"/>
                  <a:pt x="11584" y="6970"/>
                </a:cubicBezTo>
              </a:path>
              <a:path w="5135" h="1613">
                <a:moveTo>
                  <a:pt x="11708" y="6772"/>
                </a:moveTo>
                <a:cubicBezTo>
                  <a:pt x="11767" y="6772"/>
                  <a:pt x="11814" y="6787"/>
                  <a:pt x="11857" y="6747"/>
                </a:cubicBezTo>
                <a:cubicBezTo>
                  <a:pt x="11920" y="6687"/>
                  <a:pt x="11937" y="6598"/>
                  <a:pt x="11832" y="6573"/>
                </a:cubicBezTo>
                <a:cubicBezTo>
                  <a:pt x="11754" y="6554"/>
                  <a:pt x="11594" y="6744"/>
                  <a:pt x="11559" y="6796"/>
                </a:cubicBezTo>
                <a:cubicBezTo>
                  <a:pt x="11506" y="6875"/>
                  <a:pt x="11523" y="6973"/>
                  <a:pt x="11584" y="7020"/>
                </a:cubicBezTo>
                <a:cubicBezTo>
                  <a:pt x="11734" y="7133"/>
                  <a:pt x="11909" y="7102"/>
                  <a:pt x="12080" y="7094"/>
                </a:cubicBezTo>
                <a:cubicBezTo>
                  <a:pt x="12190" y="7089"/>
                  <a:pt x="12228" y="7070"/>
                  <a:pt x="12303" y="69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41920" y="2160720"/>
            <a:ext cx="357120" cy="384120"/>
          </a:xfrm>
          <a:custGeom>
            <a:avLst/>
            <a:gdLst/>
            <a:ahLst/>
            <a:rect l="l" t="t" r="r" b="b"/>
            <a:pathLst>
              <a:path w="993" h="1067">
                <a:moveTo>
                  <a:pt x="13395" y="6003"/>
                </a:moveTo>
                <a:cubicBezTo>
                  <a:pt x="13483" y="6047"/>
                  <a:pt x="13444" y="6231"/>
                  <a:pt x="13444" y="6350"/>
                </a:cubicBezTo>
                <a:cubicBezTo>
                  <a:pt x="13444" y="6559"/>
                  <a:pt x="13419" y="6761"/>
                  <a:pt x="13419" y="6970"/>
                </a:cubicBezTo>
                <a:cubicBezTo>
                  <a:pt x="13419" y="7093"/>
                  <a:pt x="13458" y="7075"/>
                  <a:pt x="13370" y="6970"/>
                </a:cubicBezTo>
              </a:path>
              <a:path w="993" h="1067">
                <a:moveTo>
                  <a:pt x="13171" y="6648"/>
                </a:moveTo>
                <a:cubicBezTo>
                  <a:pt x="13276" y="6613"/>
                  <a:pt x="13381" y="6623"/>
                  <a:pt x="13494" y="6623"/>
                </a:cubicBezTo>
                <a:cubicBezTo>
                  <a:pt x="13622" y="6623"/>
                  <a:pt x="13749" y="6635"/>
                  <a:pt x="13866" y="6573"/>
                </a:cubicBezTo>
                <a:cubicBezTo>
                  <a:pt x="13874" y="6565"/>
                  <a:pt x="13883" y="6556"/>
                  <a:pt x="13891" y="6548"/>
                </a:cubicBezTo>
                <a:cubicBezTo>
                  <a:pt x="13823" y="6587"/>
                  <a:pt x="13798" y="6625"/>
                  <a:pt x="13767" y="6697"/>
                </a:cubicBezTo>
                <a:cubicBezTo>
                  <a:pt x="13722" y="6802"/>
                  <a:pt x="13748" y="6855"/>
                  <a:pt x="13841" y="6921"/>
                </a:cubicBezTo>
                <a:cubicBezTo>
                  <a:pt x="13927" y="6983"/>
                  <a:pt x="14019" y="6928"/>
                  <a:pt x="14089" y="6871"/>
                </a:cubicBezTo>
                <a:cubicBezTo>
                  <a:pt x="14177" y="6799"/>
                  <a:pt x="14179" y="6697"/>
                  <a:pt x="14139" y="6598"/>
                </a:cubicBezTo>
                <a:cubicBezTo>
                  <a:pt x="14099" y="6499"/>
                  <a:pt x="14077" y="6431"/>
                  <a:pt x="13965" y="6424"/>
                </a:cubicBezTo>
                <a:cubicBezTo>
                  <a:pt x="13948" y="6424"/>
                  <a:pt x="13932" y="6424"/>
                  <a:pt x="13915" y="64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554800" y="2108160"/>
            <a:ext cx="615960" cy="473040"/>
          </a:xfrm>
          <a:custGeom>
            <a:avLst/>
            <a:gdLst/>
            <a:ahLst/>
            <a:rect l="l" t="t" r="r" b="b"/>
            <a:pathLst>
              <a:path w="1712" h="1316">
                <a:moveTo>
                  <a:pt x="15429" y="5879"/>
                </a:moveTo>
                <a:cubicBezTo>
                  <a:pt x="15488" y="6061"/>
                  <a:pt x="15503" y="6207"/>
                  <a:pt x="15503" y="6400"/>
                </a:cubicBezTo>
                <a:cubicBezTo>
                  <a:pt x="15503" y="6583"/>
                  <a:pt x="15457" y="6827"/>
                  <a:pt x="15528" y="6995"/>
                </a:cubicBezTo>
                <a:cubicBezTo>
                  <a:pt x="15556" y="7061"/>
                  <a:pt x="15583" y="7091"/>
                  <a:pt x="15652" y="7094"/>
                </a:cubicBezTo>
                <a:cubicBezTo>
                  <a:pt x="15751" y="7099"/>
                  <a:pt x="15833" y="7083"/>
                  <a:pt x="15925" y="7045"/>
                </a:cubicBezTo>
                <a:cubicBezTo>
                  <a:pt x="15956" y="7032"/>
                  <a:pt x="16052" y="7037"/>
                  <a:pt x="16073" y="7020"/>
                </a:cubicBezTo>
                <a:cubicBezTo>
                  <a:pt x="16093" y="6979"/>
                  <a:pt x="16102" y="6973"/>
                  <a:pt x="16098" y="6945"/>
                </a:cubicBezTo>
              </a:path>
              <a:path w="1712" h="1316">
                <a:moveTo>
                  <a:pt x="15602" y="6573"/>
                </a:moveTo>
                <a:cubicBezTo>
                  <a:pt x="15698" y="6541"/>
                  <a:pt x="15799" y="6529"/>
                  <a:pt x="15900" y="6499"/>
                </a:cubicBezTo>
                <a:cubicBezTo>
                  <a:pt x="15965" y="6477"/>
                  <a:pt x="15980" y="6469"/>
                  <a:pt x="16024" y="6474"/>
                </a:cubicBezTo>
              </a:path>
              <a:path w="1712" h="1316">
                <a:moveTo>
                  <a:pt x="15553" y="5904"/>
                </a:moveTo>
                <a:cubicBezTo>
                  <a:pt x="15700" y="5870"/>
                  <a:pt x="15847" y="5858"/>
                  <a:pt x="15999" y="5854"/>
                </a:cubicBezTo>
                <a:cubicBezTo>
                  <a:pt x="16073" y="5852"/>
                  <a:pt x="16148" y="5854"/>
                  <a:pt x="16222" y="5854"/>
                </a:cubicBezTo>
              </a:path>
              <a:path w="1712" h="1316">
                <a:moveTo>
                  <a:pt x="16470" y="6003"/>
                </a:moveTo>
                <a:cubicBezTo>
                  <a:pt x="16470" y="6138"/>
                  <a:pt x="16488" y="6266"/>
                  <a:pt x="16495" y="6400"/>
                </a:cubicBezTo>
                <a:cubicBezTo>
                  <a:pt x="16503" y="6567"/>
                  <a:pt x="16509" y="6758"/>
                  <a:pt x="16545" y="6921"/>
                </a:cubicBezTo>
                <a:cubicBezTo>
                  <a:pt x="16565" y="7012"/>
                  <a:pt x="16587" y="7008"/>
                  <a:pt x="16570" y="6921"/>
                </a:cubicBezTo>
              </a:path>
              <a:path w="1712" h="1316">
                <a:moveTo>
                  <a:pt x="16396" y="6152"/>
                </a:moveTo>
                <a:cubicBezTo>
                  <a:pt x="16451" y="6131"/>
                  <a:pt x="16496" y="6120"/>
                  <a:pt x="16594" y="6152"/>
                </a:cubicBezTo>
                <a:cubicBezTo>
                  <a:pt x="16770" y="6210"/>
                  <a:pt x="16857" y="6270"/>
                  <a:pt x="16966" y="6400"/>
                </a:cubicBezTo>
                <a:cubicBezTo>
                  <a:pt x="17052" y="6503"/>
                  <a:pt x="17088" y="6568"/>
                  <a:pt x="17115" y="6697"/>
                </a:cubicBezTo>
                <a:cubicBezTo>
                  <a:pt x="17130" y="6768"/>
                  <a:pt x="17174" y="6901"/>
                  <a:pt x="17115" y="6970"/>
                </a:cubicBezTo>
                <a:cubicBezTo>
                  <a:pt x="17077" y="7015"/>
                  <a:pt x="16951" y="7128"/>
                  <a:pt x="16892" y="7144"/>
                </a:cubicBezTo>
                <a:cubicBezTo>
                  <a:pt x="16836" y="7160"/>
                  <a:pt x="16805" y="7164"/>
                  <a:pt x="16743" y="7169"/>
                </a:cubicBezTo>
                <a:cubicBezTo>
                  <a:pt x="16735" y="7169"/>
                  <a:pt x="16726" y="7169"/>
                  <a:pt x="16718" y="71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62800" y="2081160"/>
            <a:ext cx="1411200" cy="392040"/>
          </a:xfrm>
          <a:custGeom>
            <a:avLst/>
            <a:gdLst/>
            <a:ahLst/>
            <a:rect l="l" t="t" r="r" b="b"/>
            <a:pathLst>
              <a:path w="3921" h="1093">
                <a:moveTo>
                  <a:pt x="18231" y="5953"/>
                </a:moveTo>
                <a:cubicBezTo>
                  <a:pt x="18292" y="5990"/>
                  <a:pt x="18358" y="5971"/>
                  <a:pt x="18430" y="5953"/>
                </a:cubicBezTo>
                <a:cubicBezTo>
                  <a:pt x="18491" y="5938"/>
                  <a:pt x="18518" y="5928"/>
                  <a:pt x="18579" y="5928"/>
                </a:cubicBezTo>
                <a:cubicBezTo>
                  <a:pt x="18579" y="6014"/>
                  <a:pt x="18555" y="6095"/>
                  <a:pt x="18479" y="6152"/>
                </a:cubicBezTo>
                <a:cubicBezTo>
                  <a:pt x="18402" y="6210"/>
                  <a:pt x="18314" y="6274"/>
                  <a:pt x="18231" y="6325"/>
                </a:cubicBezTo>
                <a:cubicBezTo>
                  <a:pt x="18321" y="6325"/>
                  <a:pt x="18424" y="6307"/>
                  <a:pt x="18504" y="6350"/>
                </a:cubicBezTo>
                <a:cubicBezTo>
                  <a:pt x="18584" y="6394"/>
                  <a:pt x="18696" y="6518"/>
                  <a:pt x="18653" y="6623"/>
                </a:cubicBezTo>
                <a:cubicBezTo>
                  <a:pt x="18630" y="6680"/>
                  <a:pt x="18533" y="6785"/>
                  <a:pt x="18479" y="6821"/>
                </a:cubicBezTo>
                <a:cubicBezTo>
                  <a:pt x="18392" y="6880"/>
                  <a:pt x="18359" y="6868"/>
                  <a:pt x="18281" y="6821"/>
                </a:cubicBezTo>
                <a:cubicBezTo>
                  <a:pt x="18210" y="6778"/>
                  <a:pt x="18216" y="6790"/>
                  <a:pt x="18281" y="6747"/>
                </a:cubicBezTo>
              </a:path>
              <a:path w="3921" h="1093">
                <a:moveTo>
                  <a:pt x="19695" y="5854"/>
                </a:moveTo>
                <a:cubicBezTo>
                  <a:pt x="19640" y="5809"/>
                  <a:pt x="19616" y="5804"/>
                  <a:pt x="19546" y="5804"/>
                </a:cubicBezTo>
                <a:cubicBezTo>
                  <a:pt x="19445" y="5804"/>
                  <a:pt x="19307" y="5866"/>
                  <a:pt x="19224" y="5928"/>
                </a:cubicBezTo>
                <a:cubicBezTo>
                  <a:pt x="19185" y="5957"/>
                  <a:pt x="19068" y="6035"/>
                  <a:pt x="19124" y="6102"/>
                </a:cubicBezTo>
                <a:cubicBezTo>
                  <a:pt x="19191" y="6183"/>
                  <a:pt x="19355" y="6227"/>
                  <a:pt x="19447" y="6276"/>
                </a:cubicBezTo>
                <a:cubicBezTo>
                  <a:pt x="19530" y="6320"/>
                  <a:pt x="19676" y="6350"/>
                  <a:pt x="19720" y="6449"/>
                </a:cubicBezTo>
                <a:cubicBezTo>
                  <a:pt x="19759" y="6536"/>
                  <a:pt x="19697" y="6615"/>
                  <a:pt x="19645" y="6672"/>
                </a:cubicBezTo>
                <a:cubicBezTo>
                  <a:pt x="19592" y="6730"/>
                  <a:pt x="19555" y="6767"/>
                  <a:pt x="19472" y="6772"/>
                </a:cubicBezTo>
                <a:cubicBezTo>
                  <a:pt x="19419" y="6775"/>
                  <a:pt x="19341" y="6726"/>
                  <a:pt x="19323" y="6672"/>
                </a:cubicBezTo>
                <a:cubicBezTo>
                  <a:pt x="19293" y="6582"/>
                  <a:pt x="19353" y="6447"/>
                  <a:pt x="19397" y="6375"/>
                </a:cubicBezTo>
                <a:cubicBezTo>
                  <a:pt x="19473" y="6252"/>
                  <a:pt x="19536" y="6121"/>
                  <a:pt x="19621" y="6003"/>
                </a:cubicBezTo>
                <a:cubicBezTo>
                  <a:pt x="19649" y="5965"/>
                  <a:pt x="19680" y="5951"/>
                  <a:pt x="19720" y="5928"/>
                </a:cubicBezTo>
              </a:path>
              <a:path w="3921" h="1093">
                <a:moveTo>
                  <a:pt x="20166" y="5779"/>
                </a:moveTo>
                <a:cubicBezTo>
                  <a:pt x="20095" y="5865"/>
                  <a:pt x="20057" y="5989"/>
                  <a:pt x="20042" y="6102"/>
                </a:cubicBezTo>
                <a:cubicBezTo>
                  <a:pt x="20027" y="6218"/>
                  <a:pt x="20012" y="6439"/>
                  <a:pt x="20067" y="6548"/>
                </a:cubicBezTo>
                <a:cubicBezTo>
                  <a:pt x="20110" y="6634"/>
                  <a:pt x="20178" y="6667"/>
                  <a:pt x="20265" y="6697"/>
                </a:cubicBezTo>
                <a:cubicBezTo>
                  <a:pt x="20347" y="6725"/>
                  <a:pt x="20482" y="6703"/>
                  <a:pt x="20538" y="6623"/>
                </a:cubicBezTo>
                <a:cubicBezTo>
                  <a:pt x="20594" y="6542"/>
                  <a:pt x="20560" y="6461"/>
                  <a:pt x="20464" y="6449"/>
                </a:cubicBezTo>
                <a:cubicBezTo>
                  <a:pt x="20339" y="6434"/>
                  <a:pt x="20110" y="6473"/>
                  <a:pt x="20042" y="6598"/>
                </a:cubicBezTo>
                <a:cubicBezTo>
                  <a:pt x="20042" y="6681"/>
                  <a:pt x="20051" y="6708"/>
                  <a:pt x="20141" y="6697"/>
                </a:cubicBezTo>
              </a:path>
              <a:path w="3921" h="1093">
                <a:moveTo>
                  <a:pt x="20886" y="5928"/>
                </a:moveTo>
                <a:cubicBezTo>
                  <a:pt x="20936" y="5928"/>
                  <a:pt x="20935" y="5928"/>
                  <a:pt x="20985" y="5928"/>
                </a:cubicBezTo>
                <a:cubicBezTo>
                  <a:pt x="21080" y="5928"/>
                  <a:pt x="21310" y="5885"/>
                  <a:pt x="21382" y="5953"/>
                </a:cubicBezTo>
                <a:cubicBezTo>
                  <a:pt x="21463" y="6030"/>
                  <a:pt x="21412" y="6151"/>
                  <a:pt x="21357" y="6226"/>
                </a:cubicBezTo>
                <a:cubicBezTo>
                  <a:pt x="21276" y="6335"/>
                  <a:pt x="21206" y="6442"/>
                  <a:pt x="21158" y="6573"/>
                </a:cubicBezTo>
                <a:cubicBezTo>
                  <a:pt x="21135" y="6636"/>
                  <a:pt x="21130" y="6692"/>
                  <a:pt x="21109" y="6747"/>
                </a:cubicBezTo>
                <a:cubicBezTo>
                  <a:pt x="21210" y="6775"/>
                  <a:pt x="21299" y="6772"/>
                  <a:pt x="21406" y="6772"/>
                </a:cubicBezTo>
                <a:cubicBezTo>
                  <a:pt x="21514" y="6772"/>
                  <a:pt x="21621" y="6772"/>
                  <a:pt x="21729" y="6772"/>
                </a:cubicBezTo>
              </a:path>
              <a:path w="3921" h="1093">
                <a:moveTo>
                  <a:pt x="22151" y="6772"/>
                </a:moveTo>
                <a:cubicBezTo>
                  <a:pt x="22151" y="6764"/>
                  <a:pt x="22151" y="6755"/>
                  <a:pt x="22151" y="67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87800" y="3571920"/>
            <a:ext cx="1036440" cy="500040"/>
          </a:xfrm>
          <a:custGeom>
            <a:avLst/>
            <a:gdLst/>
            <a:ahLst/>
            <a:rect l="l" t="t" r="r" b="b"/>
            <a:pathLst>
              <a:path w="2879" h="1390">
                <a:moveTo>
                  <a:pt x="9054" y="10120"/>
                </a:moveTo>
                <a:cubicBezTo>
                  <a:pt x="9034" y="10218"/>
                  <a:pt x="9018" y="10311"/>
                  <a:pt x="9029" y="10418"/>
                </a:cubicBezTo>
                <a:cubicBezTo>
                  <a:pt x="9046" y="10586"/>
                  <a:pt x="9140" y="10713"/>
                  <a:pt x="9178" y="10864"/>
                </a:cubicBezTo>
                <a:cubicBezTo>
                  <a:pt x="9178" y="10926"/>
                  <a:pt x="9169" y="10941"/>
                  <a:pt x="9203" y="10964"/>
                </a:cubicBezTo>
                <a:cubicBezTo>
                  <a:pt x="9138" y="10964"/>
                  <a:pt x="9139" y="10965"/>
                  <a:pt x="9079" y="10939"/>
                </a:cubicBezTo>
              </a:path>
              <a:path w="2879" h="1390">
                <a:moveTo>
                  <a:pt x="8855" y="10046"/>
                </a:moveTo>
                <a:cubicBezTo>
                  <a:pt x="9015" y="10000"/>
                  <a:pt x="9161" y="9971"/>
                  <a:pt x="9327" y="10021"/>
                </a:cubicBezTo>
                <a:cubicBezTo>
                  <a:pt x="9518" y="10079"/>
                  <a:pt x="9767" y="10211"/>
                  <a:pt x="9897" y="10368"/>
                </a:cubicBezTo>
                <a:cubicBezTo>
                  <a:pt x="9980" y="10468"/>
                  <a:pt x="10054" y="10687"/>
                  <a:pt x="10071" y="10815"/>
                </a:cubicBezTo>
                <a:cubicBezTo>
                  <a:pt x="10092" y="10972"/>
                  <a:pt x="10068" y="11089"/>
                  <a:pt x="9947" y="11187"/>
                </a:cubicBezTo>
                <a:cubicBezTo>
                  <a:pt x="9831" y="11281"/>
                  <a:pt x="9647" y="11325"/>
                  <a:pt x="9500" y="11311"/>
                </a:cubicBezTo>
                <a:cubicBezTo>
                  <a:pt x="9467" y="11308"/>
                  <a:pt x="9205" y="11219"/>
                  <a:pt x="9178" y="11237"/>
                </a:cubicBezTo>
                <a:cubicBezTo>
                  <a:pt x="9186" y="11245"/>
                  <a:pt x="9195" y="11253"/>
                  <a:pt x="9203" y="11261"/>
                </a:cubicBezTo>
              </a:path>
              <a:path w="2879" h="1390">
                <a:moveTo>
                  <a:pt x="10517" y="10691"/>
                </a:moveTo>
                <a:cubicBezTo>
                  <a:pt x="10546" y="10768"/>
                  <a:pt x="10542" y="10829"/>
                  <a:pt x="10542" y="10914"/>
                </a:cubicBezTo>
                <a:cubicBezTo>
                  <a:pt x="10542" y="10972"/>
                  <a:pt x="10542" y="11030"/>
                  <a:pt x="10542" y="11088"/>
                </a:cubicBezTo>
              </a:path>
              <a:path w="2879" h="1390">
                <a:moveTo>
                  <a:pt x="10492" y="10145"/>
                </a:moveTo>
                <a:cubicBezTo>
                  <a:pt x="10452" y="10215"/>
                  <a:pt x="10467" y="10202"/>
                  <a:pt x="10517" y="10269"/>
                </a:cubicBezTo>
              </a:path>
              <a:path w="2879" h="1390">
                <a:moveTo>
                  <a:pt x="11286" y="10468"/>
                </a:moveTo>
                <a:cubicBezTo>
                  <a:pt x="11214" y="10440"/>
                  <a:pt x="11163" y="10428"/>
                  <a:pt x="11088" y="10468"/>
                </a:cubicBezTo>
                <a:cubicBezTo>
                  <a:pt x="11005" y="10512"/>
                  <a:pt x="10991" y="10660"/>
                  <a:pt x="10988" y="10740"/>
                </a:cubicBezTo>
                <a:cubicBezTo>
                  <a:pt x="10985" y="10822"/>
                  <a:pt x="11035" y="10904"/>
                  <a:pt x="11112" y="10939"/>
                </a:cubicBezTo>
                <a:cubicBezTo>
                  <a:pt x="11209" y="10983"/>
                  <a:pt x="11331" y="10958"/>
                  <a:pt x="11410" y="10889"/>
                </a:cubicBezTo>
                <a:cubicBezTo>
                  <a:pt x="11460" y="10845"/>
                  <a:pt x="11485" y="10750"/>
                  <a:pt x="11509" y="10691"/>
                </a:cubicBezTo>
              </a:path>
              <a:path w="2879" h="1390">
                <a:moveTo>
                  <a:pt x="11435" y="9971"/>
                </a:moveTo>
                <a:cubicBezTo>
                  <a:pt x="11485" y="9874"/>
                  <a:pt x="11460" y="10260"/>
                  <a:pt x="11460" y="10319"/>
                </a:cubicBezTo>
                <a:cubicBezTo>
                  <a:pt x="11460" y="10492"/>
                  <a:pt x="11441" y="10673"/>
                  <a:pt x="11485" y="10840"/>
                </a:cubicBezTo>
                <a:cubicBezTo>
                  <a:pt x="11505" y="10916"/>
                  <a:pt x="11530" y="10960"/>
                  <a:pt x="11584" y="11013"/>
                </a:cubicBezTo>
                <a:cubicBezTo>
                  <a:pt x="11624" y="11053"/>
                  <a:pt x="11677" y="11038"/>
                  <a:pt x="11733" y="110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54360" y="3768840"/>
            <a:ext cx="714600" cy="455400"/>
          </a:xfrm>
          <a:custGeom>
            <a:avLst/>
            <a:gdLst/>
            <a:ahLst/>
            <a:rect l="l" t="t" r="r" b="b"/>
            <a:pathLst>
              <a:path w="1986" h="1266">
                <a:moveTo>
                  <a:pt x="12650" y="10468"/>
                </a:moveTo>
                <a:cubicBezTo>
                  <a:pt x="12707" y="10580"/>
                  <a:pt x="12776" y="10708"/>
                  <a:pt x="12849" y="10815"/>
                </a:cubicBezTo>
                <a:cubicBezTo>
                  <a:pt x="12878" y="10858"/>
                  <a:pt x="13021" y="11071"/>
                  <a:pt x="13072" y="11063"/>
                </a:cubicBezTo>
                <a:cubicBezTo>
                  <a:pt x="13080" y="11055"/>
                  <a:pt x="13089" y="11046"/>
                  <a:pt x="13097" y="11038"/>
                </a:cubicBezTo>
              </a:path>
              <a:path w="1986" h="1266">
                <a:moveTo>
                  <a:pt x="13196" y="10542"/>
                </a:moveTo>
                <a:cubicBezTo>
                  <a:pt x="13129" y="10696"/>
                  <a:pt x="13130" y="10888"/>
                  <a:pt x="13122" y="11063"/>
                </a:cubicBezTo>
                <a:cubicBezTo>
                  <a:pt x="13114" y="11244"/>
                  <a:pt x="13130" y="11431"/>
                  <a:pt x="13097" y="11609"/>
                </a:cubicBezTo>
                <a:cubicBezTo>
                  <a:pt x="13084" y="11681"/>
                  <a:pt x="13047" y="11791"/>
                  <a:pt x="13047" y="11658"/>
                </a:cubicBezTo>
              </a:path>
              <a:path w="1986" h="1266">
                <a:moveTo>
                  <a:pt x="13692" y="10592"/>
                </a:moveTo>
                <a:cubicBezTo>
                  <a:pt x="13624" y="10670"/>
                  <a:pt x="13583" y="10758"/>
                  <a:pt x="13568" y="10864"/>
                </a:cubicBezTo>
                <a:cubicBezTo>
                  <a:pt x="13557" y="10944"/>
                  <a:pt x="13555" y="11057"/>
                  <a:pt x="13643" y="11088"/>
                </a:cubicBezTo>
                <a:cubicBezTo>
                  <a:pt x="13712" y="11112"/>
                  <a:pt x="13812" y="11015"/>
                  <a:pt x="13841" y="10964"/>
                </a:cubicBezTo>
                <a:cubicBezTo>
                  <a:pt x="13919" y="10827"/>
                  <a:pt x="13868" y="10805"/>
                  <a:pt x="13791" y="10691"/>
                </a:cubicBezTo>
                <a:cubicBezTo>
                  <a:pt x="13754" y="10636"/>
                  <a:pt x="13692" y="10616"/>
                  <a:pt x="13667" y="10567"/>
                </a:cubicBezTo>
              </a:path>
              <a:path w="1986" h="1266">
                <a:moveTo>
                  <a:pt x="14213" y="10641"/>
                </a:moveTo>
                <a:cubicBezTo>
                  <a:pt x="14213" y="10747"/>
                  <a:pt x="14194" y="10832"/>
                  <a:pt x="14263" y="10914"/>
                </a:cubicBezTo>
                <a:cubicBezTo>
                  <a:pt x="14313" y="10974"/>
                  <a:pt x="14404" y="11019"/>
                  <a:pt x="14486" y="10988"/>
                </a:cubicBezTo>
                <a:cubicBezTo>
                  <a:pt x="14586" y="10950"/>
                  <a:pt x="14646" y="10844"/>
                  <a:pt x="14635" y="10740"/>
                </a:cubicBezTo>
                <a:cubicBezTo>
                  <a:pt x="14627" y="10666"/>
                  <a:pt x="14570" y="10577"/>
                  <a:pt x="14536" y="10517"/>
                </a:cubicBezTo>
                <a:cubicBezTo>
                  <a:pt x="14528" y="10501"/>
                  <a:pt x="14519" y="10484"/>
                  <a:pt x="14511" y="104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10160" y="3554280"/>
            <a:ext cx="936720" cy="723960"/>
          </a:xfrm>
          <a:custGeom>
            <a:avLst/>
            <a:gdLst/>
            <a:ahLst/>
            <a:rect l="l" t="t" r="r" b="b"/>
            <a:pathLst>
              <a:path w="2606" h="2010">
                <a:moveTo>
                  <a:pt x="15304" y="9897"/>
                </a:moveTo>
                <a:cubicBezTo>
                  <a:pt x="15325" y="10066"/>
                  <a:pt x="15347" y="10251"/>
                  <a:pt x="15379" y="10418"/>
                </a:cubicBezTo>
                <a:cubicBezTo>
                  <a:pt x="15418" y="10619"/>
                  <a:pt x="15465" y="10843"/>
                  <a:pt x="15528" y="11038"/>
                </a:cubicBezTo>
                <a:cubicBezTo>
                  <a:pt x="15555" y="11092"/>
                  <a:pt x="15560" y="11106"/>
                  <a:pt x="15503" y="11038"/>
                </a:cubicBezTo>
              </a:path>
              <a:path w="2606" h="2010">
                <a:moveTo>
                  <a:pt x="15478" y="10592"/>
                </a:moveTo>
                <a:cubicBezTo>
                  <a:pt x="15599" y="10592"/>
                  <a:pt x="15689" y="10608"/>
                  <a:pt x="15801" y="10666"/>
                </a:cubicBezTo>
                <a:cubicBezTo>
                  <a:pt x="15881" y="10708"/>
                  <a:pt x="15978" y="10768"/>
                  <a:pt x="15999" y="10864"/>
                </a:cubicBezTo>
                <a:cubicBezTo>
                  <a:pt x="16015" y="10937"/>
                  <a:pt x="15882" y="11066"/>
                  <a:pt x="15825" y="11088"/>
                </a:cubicBezTo>
                <a:cubicBezTo>
                  <a:pt x="15782" y="11105"/>
                  <a:pt x="15631" y="11167"/>
                  <a:pt x="15577" y="11137"/>
                </a:cubicBezTo>
                <a:cubicBezTo>
                  <a:pt x="15561" y="11121"/>
                  <a:pt x="15544" y="11104"/>
                  <a:pt x="15528" y="11088"/>
                </a:cubicBezTo>
              </a:path>
              <a:path w="2606" h="2010">
                <a:moveTo>
                  <a:pt x="16321" y="9872"/>
                </a:moveTo>
                <a:cubicBezTo>
                  <a:pt x="16321" y="10286"/>
                  <a:pt x="16321" y="11477"/>
                  <a:pt x="16321" y="11063"/>
                </a:cubicBezTo>
              </a:path>
              <a:path w="2606" h="2010">
                <a:moveTo>
                  <a:pt x="16743" y="10666"/>
                </a:moveTo>
                <a:cubicBezTo>
                  <a:pt x="16660" y="10680"/>
                  <a:pt x="16673" y="10750"/>
                  <a:pt x="16669" y="10840"/>
                </a:cubicBezTo>
                <a:cubicBezTo>
                  <a:pt x="16664" y="10941"/>
                  <a:pt x="16673" y="10968"/>
                  <a:pt x="16743" y="11038"/>
                </a:cubicBezTo>
                <a:cubicBezTo>
                  <a:pt x="16826" y="11121"/>
                  <a:pt x="16883" y="11099"/>
                  <a:pt x="16942" y="11013"/>
                </a:cubicBezTo>
                <a:cubicBezTo>
                  <a:pt x="17015" y="10906"/>
                  <a:pt x="17021" y="10875"/>
                  <a:pt x="16966" y="10765"/>
                </a:cubicBezTo>
                <a:cubicBezTo>
                  <a:pt x="16922" y="10677"/>
                  <a:pt x="16899" y="10591"/>
                  <a:pt x="16793" y="10567"/>
                </a:cubicBezTo>
                <a:cubicBezTo>
                  <a:pt x="16751" y="10567"/>
                  <a:pt x="16735" y="10559"/>
                  <a:pt x="16743" y="10592"/>
                </a:cubicBezTo>
              </a:path>
              <a:path w="2606" h="2010">
                <a:moveTo>
                  <a:pt x="17611" y="10592"/>
                </a:moveTo>
                <a:cubicBezTo>
                  <a:pt x="17543" y="10569"/>
                  <a:pt x="17427" y="10533"/>
                  <a:pt x="17363" y="10592"/>
                </a:cubicBezTo>
                <a:cubicBezTo>
                  <a:pt x="17306" y="10644"/>
                  <a:pt x="17255" y="10787"/>
                  <a:pt x="17289" y="10864"/>
                </a:cubicBezTo>
                <a:cubicBezTo>
                  <a:pt x="17340" y="10978"/>
                  <a:pt x="17411" y="10929"/>
                  <a:pt x="17487" y="10889"/>
                </a:cubicBezTo>
                <a:cubicBezTo>
                  <a:pt x="17576" y="10842"/>
                  <a:pt x="17657" y="10727"/>
                  <a:pt x="17711" y="10641"/>
                </a:cubicBezTo>
                <a:cubicBezTo>
                  <a:pt x="17732" y="10598"/>
                  <a:pt x="17736" y="10586"/>
                  <a:pt x="17760" y="10567"/>
                </a:cubicBezTo>
                <a:cubicBezTo>
                  <a:pt x="17824" y="10658"/>
                  <a:pt x="17838" y="10749"/>
                  <a:pt x="17859" y="10889"/>
                </a:cubicBezTo>
                <a:cubicBezTo>
                  <a:pt x="17893" y="11118"/>
                  <a:pt x="17930" y="11352"/>
                  <a:pt x="17909" y="11584"/>
                </a:cubicBezTo>
                <a:cubicBezTo>
                  <a:pt x="17903" y="11650"/>
                  <a:pt x="17912" y="11862"/>
                  <a:pt x="17810" y="11881"/>
                </a:cubicBezTo>
                <a:cubicBezTo>
                  <a:pt x="17692" y="11903"/>
                  <a:pt x="17673" y="11829"/>
                  <a:pt x="17587" y="11782"/>
                </a:cubicBezTo>
                <a:cubicBezTo>
                  <a:pt x="17530" y="11751"/>
                  <a:pt x="17488" y="11748"/>
                  <a:pt x="17438" y="117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86720" y="3581280"/>
            <a:ext cx="723600" cy="357480"/>
          </a:xfrm>
          <a:custGeom>
            <a:avLst/>
            <a:gdLst/>
            <a:ahLst/>
            <a:rect l="l" t="t" r="r" b="b"/>
            <a:pathLst>
              <a:path w="2010" h="993">
                <a:moveTo>
                  <a:pt x="18976" y="10046"/>
                </a:moveTo>
                <a:cubicBezTo>
                  <a:pt x="19018" y="10175"/>
                  <a:pt x="19051" y="10273"/>
                  <a:pt x="19075" y="10418"/>
                </a:cubicBezTo>
                <a:cubicBezTo>
                  <a:pt x="19098" y="10558"/>
                  <a:pt x="19116" y="10700"/>
                  <a:pt x="19124" y="10840"/>
                </a:cubicBezTo>
                <a:cubicBezTo>
                  <a:pt x="19124" y="10872"/>
                  <a:pt x="19116" y="10880"/>
                  <a:pt x="19075" y="10864"/>
                </a:cubicBezTo>
              </a:path>
              <a:path w="2010" h="993">
                <a:moveTo>
                  <a:pt x="18852" y="10418"/>
                </a:moveTo>
                <a:cubicBezTo>
                  <a:pt x="19045" y="10418"/>
                  <a:pt x="19232" y="10413"/>
                  <a:pt x="19422" y="10393"/>
                </a:cubicBezTo>
                <a:cubicBezTo>
                  <a:pt x="19439" y="10393"/>
                  <a:pt x="19455" y="10393"/>
                  <a:pt x="19472" y="10393"/>
                </a:cubicBezTo>
              </a:path>
              <a:path w="2010" h="993">
                <a:moveTo>
                  <a:pt x="19571" y="9996"/>
                </a:moveTo>
                <a:cubicBezTo>
                  <a:pt x="19556" y="10130"/>
                  <a:pt x="19546" y="10254"/>
                  <a:pt x="19546" y="10393"/>
                </a:cubicBezTo>
                <a:cubicBezTo>
                  <a:pt x="19546" y="10552"/>
                  <a:pt x="19520" y="10739"/>
                  <a:pt x="19571" y="10889"/>
                </a:cubicBezTo>
                <a:cubicBezTo>
                  <a:pt x="19571" y="10939"/>
                  <a:pt x="19582" y="10797"/>
                  <a:pt x="19596" y="10765"/>
                </a:cubicBezTo>
                <a:cubicBezTo>
                  <a:pt x="19625" y="10701"/>
                  <a:pt x="19633" y="10672"/>
                  <a:pt x="19670" y="10616"/>
                </a:cubicBezTo>
                <a:cubicBezTo>
                  <a:pt x="19710" y="10555"/>
                  <a:pt x="19755" y="10536"/>
                  <a:pt x="19819" y="10517"/>
                </a:cubicBezTo>
                <a:cubicBezTo>
                  <a:pt x="19857" y="10506"/>
                  <a:pt x="19927" y="10558"/>
                  <a:pt x="19943" y="10592"/>
                </a:cubicBezTo>
                <a:cubicBezTo>
                  <a:pt x="19964" y="10639"/>
                  <a:pt x="19968" y="10687"/>
                  <a:pt x="19968" y="10740"/>
                </a:cubicBezTo>
                <a:cubicBezTo>
                  <a:pt x="19968" y="10776"/>
                  <a:pt x="19939" y="10978"/>
                  <a:pt x="20017" y="10939"/>
                </a:cubicBezTo>
                <a:cubicBezTo>
                  <a:pt x="20063" y="10893"/>
                  <a:pt x="20078" y="10881"/>
                  <a:pt x="20092" y="10840"/>
                </a:cubicBezTo>
              </a:path>
              <a:path w="2010" h="993">
                <a:moveTo>
                  <a:pt x="20241" y="10517"/>
                </a:moveTo>
                <a:cubicBezTo>
                  <a:pt x="20207" y="10562"/>
                  <a:pt x="20194" y="10606"/>
                  <a:pt x="20191" y="10666"/>
                </a:cubicBezTo>
                <a:cubicBezTo>
                  <a:pt x="20188" y="10737"/>
                  <a:pt x="20174" y="10810"/>
                  <a:pt x="20216" y="10864"/>
                </a:cubicBezTo>
              </a:path>
              <a:path w="2010" h="993">
                <a:moveTo>
                  <a:pt x="20166" y="9947"/>
                </a:moveTo>
                <a:cubicBezTo>
                  <a:pt x="20166" y="9982"/>
                  <a:pt x="20171" y="9999"/>
                  <a:pt x="20191" y="10021"/>
                </a:cubicBezTo>
              </a:path>
              <a:path w="2010" h="993">
                <a:moveTo>
                  <a:pt x="20712" y="10244"/>
                </a:moveTo>
                <a:cubicBezTo>
                  <a:pt x="20633" y="10244"/>
                  <a:pt x="20565" y="10223"/>
                  <a:pt x="20513" y="10294"/>
                </a:cubicBezTo>
                <a:cubicBezTo>
                  <a:pt x="20495" y="10319"/>
                  <a:pt x="20465" y="10416"/>
                  <a:pt x="20489" y="10443"/>
                </a:cubicBezTo>
                <a:cubicBezTo>
                  <a:pt x="20533" y="10492"/>
                  <a:pt x="20606" y="10502"/>
                  <a:pt x="20662" y="10517"/>
                </a:cubicBezTo>
                <a:cubicBezTo>
                  <a:pt x="20786" y="10550"/>
                  <a:pt x="20778" y="10570"/>
                  <a:pt x="20836" y="10666"/>
                </a:cubicBezTo>
                <a:cubicBezTo>
                  <a:pt x="20885" y="10747"/>
                  <a:pt x="20798" y="10766"/>
                  <a:pt x="20737" y="10790"/>
                </a:cubicBezTo>
                <a:cubicBezTo>
                  <a:pt x="20684" y="10811"/>
                  <a:pt x="20623" y="10832"/>
                  <a:pt x="20563" y="10815"/>
                </a:cubicBezTo>
                <a:cubicBezTo>
                  <a:pt x="20519" y="10793"/>
                  <a:pt x="20508" y="10790"/>
                  <a:pt x="20489" y="107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473720" y="4295880"/>
            <a:ext cx="1098360" cy="357120"/>
          </a:xfrm>
          <a:custGeom>
            <a:avLst/>
            <a:gdLst/>
            <a:ahLst/>
            <a:rect l="l" t="t" r="r" b="b"/>
            <a:pathLst>
              <a:path w="3052" h="993">
                <a:moveTo>
                  <a:pt x="12427" y="12477"/>
                </a:moveTo>
                <a:cubicBezTo>
                  <a:pt x="12442" y="12551"/>
                  <a:pt x="12473" y="12595"/>
                  <a:pt x="12477" y="12675"/>
                </a:cubicBezTo>
                <a:cubicBezTo>
                  <a:pt x="12481" y="12761"/>
                  <a:pt x="12472" y="12805"/>
                  <a:pt x="12526" y="12874"/>
                </a:cubicBezTo>
                <a:cubicBezTo>
                  <a:pt x="12586" y="12859"/>
                  <a:pt x="12664" y="12815"/>
                  <a:pt x="12700" y="12750"/>
                </a:cubicBezTo>
                <a:cubicBezTo>
                  <a:pt x="12758" y="12644"/>
                  <a:pt x="12687" y="12683"/>
                  <a:pt x="12774" y="12626"/>
                </a:cubicBezTo>
                <a:cubicBezTo>
                  <a:pt x="12815" y="12697"/>
                  <a:pt x="12827" y="12728"/>
                  <a:pt x="12898" y="12750"/>
                </a:cubicBezTo>
                <a:cubicBezTo>
                  <a:pt x="13002" y="12782"/>
                  <a:pt x="13036" y="12743"/>
                  <a:pt x="13097" y="12650"/>
                </a:cubicBezTo>
                <a:cubicBezTo>
                  <a:pt x="13118" y="12617"/>
                  <a:pt x="13083" y="12393"/>
                  <a:pt x="13047" y="12402"/>
                </a:cubicBezTo>
                <a:cubicBezTo>
                  <a:pt x="13047" y="12419"/>
                  <a:pt x="13047" y="12435"/>
                  <a:pt x="13047" y="12452"/>
                </a:cubicBezTo>
              </a:path>
              <a:path w="3052" h="993">
                <a:moveTo>
                  <a:pt x="13395" y="12626"/>
                </a:moveTo>
                <a:cubicBezTo>
                  <a:pt x="13387" y="12634"/>
                  <a:pt x="13378" y="12642"/>
                  <a:pt x="13370" y="12650"/>
                </a:cubicBezTo>
                <a:cubicBezTo>
                  <a:pt x="13429" y="12695"/>
                  <a:pt x="13474" y="12648"/>
                  <a:pt x="13494" y="12576"/>
                </a:cubicBezTo>
                <a:cubicBezTo>
                  <a:pt x="13512" y="12513"/>
                  <a:pt x="13431" y="12442"/>
                  <a:pt x="13370" y="12477"/>
                </a:cubicBezTo>
                <a:cubicBezTo>
                  <a:pt x="13315" y="12509"/>
                  <a:pt x="13260" y="12637"/>
                  <a:pt x="13295" y="12700"/>
                </a:cubicBezTo>
                <a:cubicBezTo>
                  <a:pt x="13343" y="12786"/>
                  <a:pt x="13416" y="12839"/>
                  <a:pt x="13519" y="12824"/>
                </a:cubicBezTo>
                <a:cubicBezTo>
                  <a:pt x="13606" y="12811"/>
                  <a:pt x="13682" y="12760"/>
                  <a:pt x="13742" y="12700"/>
                </a:cubicBezTo>
              </a:path>
              <a:path w="3052" h="993">
                <a:moveTo>
                  <a:pt x="13816" y="12551"/>
                </a:moveTo>
                <a:cubicBezTo>
                  <a:pt x="13839" y="12547"/>
                  <a:pt x="13957" y="12523"/>
                  <a:pt x="13965" y="12502"/>
                </a:cubicBezTo>
                <a:cubicBezTo>
                  <a:pt x="13984" y="12450"/>
                  <a:pt x="13954" y="12385"/>
                  <a:pt x="13891" y="12402"/>
                </a:cubicBezTo>
                <a:cubicBezTo>
                  <a:pt x="13790" y="12429"/>
                  <a:pt x="13757" y="12536"/>
                  <a:pt x="13742" y="12626"/>
                </a:cubicBezTo>
                <a:cubicBezTo>
                  <a:pt x="13729" y="12707"/>
                  <a:pt x="13809" y="12744"/>
                  <a:pt x="13866" y="12750"/>
                </a:cubicBezTo>
                <a:cubicBezTo>
                  <a:pt x="13957" y="12760"/>
                  <a:pt x="14036" y="12714"/>
                  <a:pt x="14114" y="12675"/>
                </a:cubicBezTo>
                <a:cubicBezTo>
                  <a:pt x="14154" y="12655"/>
                  <a:pt x="14160" y="12646"/>
                  <a:pt x="14188" y="12650"/>
                </a:cubicBezTo>
              </a:path>
              <a:path w="3052" h="993">
                <a:moveTo>
                  <a:pt x="14337" y="12030"/>
                </a:moveTo>
                <a:cubicBezTo>
                  <a:pt x="14285" y="12116"/>
                  <a:pt x="14320" y="12228"/>
                  <a:pt x="14337" y="12328"/>
                </a:cubicBezTo>
                <a:cubicBezTo>
                  <a:pt x="14361" y="12465"/>
                  <a:pt x="14387" y="12586"/>
                  <a:pt x="14387" y="12725"/>
                </a:cubicBezTo>
                <a:cubicBezTo>
                  <a:pt x="14387" y="12781"/>
                  <a:pt x="14372" y="12786"/>
                  <a:pt x="14412" y="12799"/>
                </a:cubicBezTo>
              </a:path>
              <a:path w="3052" h="993">
                <a:moveTo>
                  <a:pt x="14784" y="12353"/>
                </a:moveTo>
                <a:cubicBezTo>
                  <a:pt x="14720" y="12353"/>
                  <a:pt x="14634" y="12349"/>
                  <a:pt x="14585" y="12402"/>
                </a:cubicBezTo>
                <a:cubicBezTo>
                  <a:pt x="14532" y="12458"/>
                  <a:pt x="14514" y="12530"/>
                  <a:pt x="14585" y="12576"/>
                </a:cubicBezTo>
                <a:cubicBezTo>
                  <a:pt x="14638" y="12610"/>
                  <a:pt x="14653" y="12644"/>
                  <a:pt x="14734" y="12650"/>
                </a:cubicBezTo>
                <a:cubicBezTo>
                  <a:pt x="14794" y="12654"/>
                  <a:pt x="14856" y="12658"/>
                  <a:pt x="14908" y="12626"/>
                </a:cubicBezTo>
                <a:cubicBezTo>
                  <a:pt x="14916" y="12618"/>
                  <a:pt x="14924" y="12609"/>
                  <a:pt x="14932" y="12601"/>
                </a:cubicBezTo>
              </a:path>
              <a:path w="3052" h="993">
                <a:moveTo>
                  <a:pt x="15131" y="11931"/>
                </a:moveTo>
                <a:cubicBezTo>
                  <a:pt x="15232" y="11931"/>
                  <a:pt x="15295" y="11976"/>
                  <a:pt x="15379" y="12030"/>
                </a:cubicBezTo>
                <a:cubicBezTo>
                  <a:pt x="15435" y="12066"/>
                  <a:pt x="15514" y="12143"/>
                  <a:pt x="15478" y="12229"/>
                </a:cubicBezTo>
                <a:cubicBezTo>
                  <a:pt x="15444" y="12310"/>
                  <a:pt x="15343" y="12369"/>
                  <a:pt x="15280" y="12427"/>
                </a:cubicBezTo>
                <a:cubicBezTo>
                  <a:pt x="15234" y="12470"/>
                  <a:pt x="15236" y="12480"/>
                  <a:pt x="15255" y="12526"/>
                </a:cubicBezTo>
              </a:path>
              <a:path w="3052" h="993">
                <a:moveTo>
                  <a:pt x="15255" y="12898"/>
                </a:moveTo>
                <a:cubicBezTo>
                  <a:pt x="15160" y="12898"/>
                  <a:pt x="15236" y="12909"/>
                  <a:pt x="15280" y="128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Search Engines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828800" y="1447920"/>
            <a:ext cx="677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llows one to search for information on the Inter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1980720" y="4572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Search Engines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514600" y="2819520"/>
            <a:ext cx="4952880" cy="3714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828800" y="2133360"/>
            <a:ext cx="6778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Yah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sk Jeeve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lta Vi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980720" y="4572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Search Engines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828800" y="2133360"/>
            <a:ext cx="6778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on’t use sentenc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3500" spc="-1" strike="noStrike">
                <a:solidFill>
                  <a:srgbClr val="e01318"/>
                </a:solidFill>
                <a:latin typeface="Arial"/>
              </a:rPr>
              <a:t>Tell me more about the Vancouver 2010 Olympics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i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hoose key words wisely; be specif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3500" spc="-1" strike="noStrike">
                <a:solidFill>
                  <a:srgbClr val="e01318"/>
                </a:solidFill>
                <a:latin typeface="Arial"/>
              </a:rPr>
              <a:t>Vancouver 2010 Olympics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i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980720" y="4572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Effective Searching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828800" y="2133360"/>
            <a:ext cx="6778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Use “+” symb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e01318"/>
                </a:solidFill>
                <a:latin typeface="Arial"/>
              </a:rPr>
              <a:t>Vancouver+Olympics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will find sites that have both Vancouver and Olympics in them</a:t>
            </a:r>
            <a:endParaRPr b="0" i="1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1980720" y="4572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Effective Searching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828800" y="2133360"/>
            <a:ext cx="6778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Use “-” symb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e01318"/>
                </a:solidFill>
                <a:latin typeface="Arial"/>
              </a:rPr>
              <a:t>Vancouver-Olympics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will find sites that have the word Vancouver but do not contain the Olympics in it</a:t>
            </a:r>
            <a:endParaRPr b="0" i="1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1980720" y="4572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Effective Searching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828800" y="2133360"/>
            <a:ext cx="6778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Use “quotes” symb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e01318"/>
                </a:solidFill>
                <a:latin typeface="Arial"/>
              </a:rPr>
              <a:t>“</a:t>
            </a:r>
            <a:r>
              <a:rPr b="1" lang="en-US" sz="3500" spc="-1" strike="noStrike">
                <a:solidFill>
                  <a:srgbClr val="e01318"/>
                </a:solidFill>
                <a:latin typeface="Arial"/>
              </a:rPr>
              <a:t>Vancouver Olympics”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will find sites that have the words Vancouver Olympics together as one</a:t>
            </a:r>
            <a:endParaRPr b="0" i="1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1980720" y="4572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Effective Searching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80720" y="4572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Advanced Search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2057400" y="152388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828800" y="2133360"/>
            <a:ext cx="6778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ore info 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google.com/support/?ctx=web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1980720" y="4572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Google Help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2895120" y="456840"/>
            <a:ext cx="541044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Presentation Softwar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“</a:t>
            </a: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PowerPoint as a Teaching / Working Tool”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038480" y="3581280"/>
            <a:ext cx="3276720" cy="2470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52480" y="190476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o you feel like the Internet is privat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o is watching u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Assignment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Assignmen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52480" y="1395000"/>
            <a:ext cx="701064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d to class discussion blog po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 a personal blog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 a PowerPoint presentation (5 slides) on a specific topic that you would use as a teaching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y to Email it to me as an attach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3276720" y="990360"/>
            <a:ext cx="541008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Presentation Softwar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“</a:t>
            </a: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PowerPoint as a Teaching / Working Tool”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2516400" y="4572000"/>
            <a:ext cx="60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/youtube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com/watch?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v=HLpjrHzgS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981080" y="1828440"/>
            <a:ext cx="6778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ddresses multiple intellig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, images, shapes, sound, music, video (multimedia) etc. reinforce the important point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udents / audience can see, hear, or “feel” the concept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2971800" y="1522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Why PowerPoint? (or any slide show application?)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590920" y="1676520"/>
            <a:ext cx="5410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loured text</a:t>
            </a:r>
            <a:r>
              <a:rPr b="1" i="1" lang="en-US" sz="2000" spc="-1" strike="noStrike">
                <a:solidFill>
                  <a:srgbClr val="e0131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ving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ighlighted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rawin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harts &amp; Gra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ictu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m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imated drawin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deo cli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oun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Value Added to </a:t>
            </a:r>
            <a:br>
              <a:rPr sz="3200"/>
            </a:b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Teaching / Presenting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981080" y="3428640"/>
            <a:ext cx="6778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mpu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ktop or laptop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ideo vie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media projector or TV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2971800" y="1522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What do we need?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952880" y="1523880"/>
            <a:ext cx="3495960" cy="200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599840" y="2057040"/>
            <a:ext cx="6629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ass No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d notes – can be reinforced with pictures, vide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isual Concept 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tep by step                               instructions and                             examples to build                              on concepts</a:t>
            </a:r>
            <a:endParaRPr b="0" i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Good for Math</a:t>
            </a:r>
            <a:endParaRPr b="0" i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2971800" y="1522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What can we do with PowerPoint?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943600" y="3886200"/>
            <a:ext cx="2819520" cy="2114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905120" y="1523880"/>
            <a:ext cx="35049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teractive too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oup or class games to practice / review concepts  (i.e. Jeopardy, Millionaire, etc.)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haring ideas and products - interested in a quality pi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2971800" y="1522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What can we do with PowerPoint?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715000" y="236232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00:33:42Z</dcterms:created>
  <dc:creator>Gary Gallant</dc:creator>
  <dc:description/>
  <dc:language>en-US</dc:language>
  <cp:lastModifiedBy>Gary Gallant</cp:lastModifiedBy>
  <dcterms:modified xsi:type="dcterms:W3CDTF">2008-02-06T20:43:55Z</dcterms:modified>
  <cp:revision>21</cp:revision>
  <dc:subject/>
  <dc:title>Welcome to  ED3862</dc:title>
</cp:coreProperties>
</file>